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6C5-3E91-4D19-AC65-D39E84DF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B76-2F57-491A-B033-32C6920B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6E2-550A-4917-AEA4-678E29F9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A02-A20C-4988-95EF-F5D092F9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6F7F-FA6D-484E-B202-8A1F1CB2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E6F-F813-4CB4-8A8D-845BECAE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18EB-6CAD-413E-A019-DF57DDA0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5B3F-03E8-4AAD-89D9-3A3659B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14BE-B4B3-40DB-8D2E-8921DB55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6B42-BCF1-4C14-93EC-A945047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F51B-2F23-4B16-A56B-00168D0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D62-1B46-47C5-A49F-3AAD99F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D37-FAB5-4E0E-BC0F-860639D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A708-EF07-4DF4-AB74-92E37F07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4C62-0404-48E1-AA88-6C35E408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5224-CFE1-4056-8905-00839B22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8A4-2D78-4031-B2D2-187DAA1E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1A186-4800-437D-B29E-3B3CE997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C7ABA-F46D-4D32-9332-BDFF62F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85549-9546-4140-A847-EDD92D7A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4AC1B-DDA5-40A9-866A-A64BAF8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5F273-B9F9-4A97-97AB-288D037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96F-5122-4386-AA39-30853CC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EFD4B-F854-403A-ADDB-4048C0B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414AD-EC92-48D2-9B17-BFC381F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A937A-FF0D-4BE0-A2E7-6DC4A037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5CCA6-433D-4253-A822-4C5CF9C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2AFDF-3E98-4F5B-B7FC-316902D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97A10-0DB4-48D6-BBB1-497640A2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9464D-CA6C-4122-A263-CDF63D01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D9B2D-E7E8-454A-BDD8-E95CCECD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86476-9E9F-4E6E-B679-7546654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8A75D-9963-4A29-B0FD-D20FE968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1A6-69E6-4693-AD49-31C7395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1C901-F561-4DD9-8E98-EDDBD37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89422-6FC3-4C0A-BAB2-2575A53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2BFAD-4BD8-4B80-AED0-75326A64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95670-EF2D-4EA8-B82F-AF2FB46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731DA-681B-42A7-B9E5-3F28668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48D65-1BC7-47F4-9E1A-FC3D563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FE38B-1A22-42C7-9838-A8A45073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4396F-B40B-48E6-83F4-0DD385B8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ECF7E-B944-4BC8-B576-7592A871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A88DB-4D61-41D1-BA11-792D0D54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BBE-A991-4DB1-948B-7A73479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822DD-605C-4860-8EC7-2823B4F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53637-DD39-4525-AE62-992EE40D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D94EA-C594-4563-8772-8946E55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09E3A-122E-4B4C-879B-970B1590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5A819-B9AF-47FA-81A0-92995AD0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9EA5C-6D1E-4878-9398-AD581B0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B4BD2-5A73-4C6C-B50B-9D7B5C9A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37D17-A254-4994-B354-8F0F5F2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69B50-FCBF-474E-89AA-EF7117F4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A44C1-90C1-48CE-BB21-5FE687BB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69A-08C0-4992-9B62-3DEDD16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19092-0207-48D0-8113-7D9494FD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6C32-347B-4DB4-B275-856C1792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CEAF-1587-4A35-9694-810BA3CF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F9B1-B90F-4BFF-A388-384E9F80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12A0-9C73-40F7-B1D5-1341BDF7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5A54-D581-4858-8FA3-56BA5D2D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EFA8-20F5-4D94-9D1B-9B73125E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D822-5BFD-497E-8CB7-0205C5F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92B32-F3A6-45D7-A108-F0992C8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9755-2A67-437D-8A56-0A10725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7EE-65DA-4384-B5AC-3F145C9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6CAE-1F91-4669-8EF4-209291C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8E25-2856-47D0-A846-1CE28C49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5FCE-8133-42BE-BFBC-4436D8E0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17F97-2612-4D21-9375-5DD395E3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C1883-FAD2-401D-B16D-2F2FC5C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CE113-B57E-489C-A925-37855A9F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BB2AD-CE84-488F-8AEC-88CEDDB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8976F-3F86-487A-8E99-5DDB410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37D22-77B7-4C47-B5ED-F2CDCE8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69C4F-BA5A-4685-9E6F-D9F3D5D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395-2178-461A-871F-3C3D846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345C3-8721-4E39-A7BA-A07D0E5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F4D6B-BA8C-48B1-981E-DC87A858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DF5CE-9285-4482-8F1B-29D6C6B4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1D930-E0A2-47D9-91E8-7FDE7D12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BB805-AB5F-4684-A64C-EF9B8FBC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568A-9BDD-4604-B2C6-170C821A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E784A-3A34-458C-919B-6D509952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0D19-6463-4868-BBEE-C02C7539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EC41F-215F-4075-9EEC-68E81C65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B0E8-959F-443E-8E0C-8B321EB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0C7-52B5-4E8D-A87A-977BD21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A6A7-54B4-4496-9FF5-05BFC611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884C9-9839-4B62-AF3A-DFEC434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8B47D-3EB6-44D7-BC40-C0F5471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0F878-B356-47BA-A8CD-28DA1D5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28596-AAFA-427D-ACDD-DE417C2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1E586-8B96-42B8-9937-D579EF0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5669-DD32-4ECA-881D-65FA7E1C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120-6066-4CAE-A6BE-4E83C4BB1B2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FA18-46C6-4CC1-A77B-683999A1CDC5}" type="slidenum">
              <a:rPr b="1" lang="ru-RU" sz="14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FF0-0089-4F6C-A428-2D3A549BE611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59D2-0E38-431A-8A1D-7291CC139D1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BB94-618B-4F5E-8458-8259639137D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DE77-E5EB-40E0-939A-2B24FEA7658C}" type="slidenum">
              <a:rPr b="1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A4D3-35B7-48EC-A299-BC56D8698F74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B465-8133-4233-91A6-23AA6EC0381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dpptmfmp@gmail.com" TargetMode="External"/><Relationship Id="rId2" Type="http://schemas.openxmlformats.org/officeDocument/2006/relationships/hyperlink" Target="mailto:dpptmekolog@gmail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630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Социальные сервисы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еб 2.0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 проектной деятельности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артовую презентацию подготовила М.А. Габо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1680" y="407196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ем свой проект и размещаем его в с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Этапы работы над проектом (с. 13 – 15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ание темы, основополагающего и проблемных вопросов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пределение целей и задач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ка и обсуждение тем индивидуальных про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ланирование работы в груп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иск информации по темам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амостоятельная работа над индивидуальными про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, выбор формы представления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Защита творческих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мы делаем сегодн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4200" y="1600200"/>
            <a:ext cx="8786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комимся с теоретическим материалом по теме (презентация «Проекты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атриваем примеры проектов (в хрестоматии и на диске –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олняем лист планирования работы по проекту (сетевая папк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улируем творческую тему группового проекта и его основополагающий вопрос (помощь – презентация «Основ вопрос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темы индивидуальных проектов в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обязанности по разработке портфолио проекта в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истрируем группу в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gl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на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iki.kgpi.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ем заполнять визитные карточки проектов (с. 22 – 27 и на диске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Портфолио проекта групп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-страничка с общим описанием проекта и ссылками на индивидуальные проек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Презентац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Сайт или блог проек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Портфолио индивидуального проек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убликация или презентация по материалам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резентация проекта или </a:t>
            </a:r>
            <a:r>
              <a:rPr b="0" lang="en-US" sz="27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-стать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Дидактические материалы (конспекты, игры, кроссворды, схемы для детей или студен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Информационные материалы (статьи, интересные факты, энциклопедические сведения и т.п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Аннотированный каталог информационных ресур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500"/>
                            </p:stCondLst>
                            <p:childTnLst>
                              <p:par>
                                <p:cTn id="8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Calibri"/>
              </a:rPr>
              <a:t>Лучшие прое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быть представлены на научно-практической конференции студентов и аспирантов КГПИ (и на других конференциях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участвовать в конкурсе проектов студентов КГП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alibri"/>
              </a:rPr>
              <a:t>Контактная информац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Габова Марина Анатолье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1"/>
              </a:rPr>
              <a:t>dpptmfmp@gmail.com</a:t>
            </a:r>
            <a:r>
              <a:rPr b="0" lang="en-US" sz="2000" spc="-1" strike="noStrike">
                <a:solidFill>
                  <a:srgbClr val="004e6d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Партыка Надежда Владимир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</a:t>
            </a:r>
            <a:r>
              <a:rPr b="0" lang="ru-RU" sz="20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2"/>
              </a:rPr>
              <a:t>dpptmekolog@gmail.com</a:t>
            </a: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оми государственный педагогический инсти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федра педагогики и методики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Г. Сыктывкар, ул. Коммунистическая, д. 21 (1 корпус КГП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б. 3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Желаем успех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 освоен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метода проект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и сетевых сервис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еб 2.0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щая характеристика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Тема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а ИКТ в экологическом образовании детей дошкольного возра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астники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уденты 636 групп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ебные дисциплин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современных информационных и коммуникационных технологий в учебном процес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ория и методика экологического образования де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Руководите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ина Анатольевна Габова, к.п.н., доцен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дежда Владимировна Партыка, ст. преподава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Цель проекта: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дготовка студентов к работе по экологическому образованию дете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480" y="1599840"/>
            <a:ext cx="871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Calibri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лекать студентов к самостоятельному поиску и анализу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особствовать овладению студентами научно-исследовательскими умениями как основой проектирования работы по экологическому образованию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развитию научно-методического кругозора студентов, побуждать к самообразованию, саморазвит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ть становление творческой активной позиции студентов во взаимодействии в процессе коллективного поиска идей, достижение совместных творческих результа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вать условия для освоения умений использовать информационные технологии для представления хода и результатов исследовательск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3200"/>
            </a:b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зн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еречислить основные виды растений и животных в уголке природы дошкольного учреждения, доступных пониманию детьми дошкольного возрас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формулировать требования к условиям содержания определенных видов растений и животных в уголке приро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оним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рассуждать о возможностях использования средства ИКТ дл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оздания дидакт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презентации результатов своей рабо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) организации занятий с деть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)  поиска информации по теме исслед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5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678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римен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подбирать задания, направленные на ознакомление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 комнатными растения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с обитателями аквариума, террариума, акватеррари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использовать современные научно обоснованные приемы, методы и средства обучения, в том числе ИК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анализ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называть основные видовые признаки растений и животных уголка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характеризовать особенности ухода за определенными обитателями уголков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отбирать приемы ознакомления детей с растениями и животными в разных возрастных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643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синтез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самостоятельно конструировать развивающие задани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планирование и проведение занятий с деть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построение предметно-развивающей среды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моделирование образовательного процесса в соответствии с современными концепциями дошкольного образов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оценки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роводить самоанализ и самооценку, взаимоанализ и взаимооценку деятельности  с целью повышения педагогической квалифик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мероприятия по организации контроля за результатами обучения и воспит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Умения 21-го века осваиваем в проекте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Ответственность и адаптив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ибкость в личных, учебных и профессиональных делах; достижение высоких стандартов и целей для себя и друг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оммуникативные умен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онимание другого, умение создавать эффективные формы устного, письменного, мультимедийного и сетевого общ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еативность и любозна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енерирование новых идей, их применение и обмен с другими; открытость новым и отличающимся от собственной точкам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итическое и системное мышлен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мышление, обуславливающее совершение верного выбора; понимание взаимосвязей в сложных систем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Информационная и медиа грамот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находить, анализировать, обрабатывать, интегрировать, оценивать информацию в разных формах и на различных типах медиаоборуд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Межличностное взаимодействие и сотрудничеств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работать в команде; выполнять разные роли и обязанности; продуктивно взаимодействовать с другими; сопереживать; уважать различные мн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Постановка и решение проблем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способность формулировать, анализировать и решать пробл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Направленность на саморазвит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мониторинг процесса освоения и своих потребностей в обучении; поиск ресурсов; перемещение информации из одной области знаний в другу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Социальная ответ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действовать в интересах сообщества; демонстрация этичного поведения в личном и общественном контекст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1714320"/>
            <a:ext cx="8715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Основополагающий вопрос проекта: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Как средства ИКТ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помогают педагогу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в экологическом образовании детей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Темы творческих проектов студен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712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натные растения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квариум – модель экологической систем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тицы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лкие млекопитающие – постоянные обитатели живого угол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зонные обитатели уголка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6:49:41Z</dcterms:created>
  <dc:creator>Serg</dc:creator>
  <dc:description/>
  <dc:language>en-US</dc:language>
  <cp:lastModifiedBy>Serg</cp:lastModifiedBy>
  <dcterms:modified xsi:type="dcterms:W3CDTF">2010-03-11T15:21:46Z</dcterms:modified>
  <cp:revision>14</cp:revision>
  <dc:subject/>
  <dc:title>Слайд 1</dc:title>
</cp:coreProperties>
</file>